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636399"/>
        <c:axId val="3964480"/>
      </c:barChart>
      <c:catAx>
        <c:axId val="436363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4480"/>
        <c:crosses val="autoZero"/>
        <c:auto val="1"/>
        <c:lblAlgn val="ctr"/>
        <c:lblOffset val="100"/>
        <c:noMultiLvlLbl val="0"/>
      </c:catAx>
      <c:valAx>
        <c:axId val="39644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6363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8871-7017-478A-AF76-A43A534EB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6650-A0A6-452B-8508-C96E6271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582B-6C96-4751-88C0-C1957BE7B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9120-DCF0-412B-8D94-C62A79864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EF40-4EE1-445F-9C7D-5141C8CB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0F2D-E374-4F57-B970-1882C83F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77D2-DDB5-4FAE-BF2F-3D21F508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FEA1-DE9E-46D6-AEA7-80BFA647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86ED-502A-4A4D-A317-48514637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7D06-62AA-4B1B-9092-790DB0C5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7D7B-80E5-4078-B0DE-795315D0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CFB3-0C27-4F86-A07A-194F9262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401375-A3FB-482D-A93E-D5426CD467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