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57498"/>
        <c:axId val="78322193"/>
      </c:barChart>
      <c:catAx>
        <c:axId val="15157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2193"/>
        <c:crosses val="autoZero"/>
        <c:auto val="1"/>
        <c:lblAlgn val="ctr"/>
        <c:lblOffset val="100"/>
        <c:noMultiLvlLbl val="0"/>
      </c:catAx>
      <c:valAx>
        <c:axId val="78322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57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581-BCDE-425F-9509-18CD7256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526-8A49-4FD2-84DD-6AC9E576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F27-C639-49C1-BC48-A9AB7C49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916-C7E2-484F-B721-E42D3822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440-3285-48FD-8B96-D576F35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9FF-5E05-4AAD-8EB0-5771E33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4B7-5B96-4AC5-A3C5-F180B72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118-A063-4289-A1C4-AF1C871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388-BEFF-4FAC-9887-57AAD1F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963-B10F-4E65-A847-B519BDD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D7F-15CE-4165-B3CD-AD8E4570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2A2-E7B6-48B5-82AB-9CD9347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CD152-8965-4B7A-9471-888F7A28CB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