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6003"/>
        <c:axId val="87417567"/>
      </c:barChart>
      <c:catAx>
        <c:axId val="6826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7567"/>
        <c:crosses val="autoZero"/>
        <c:auto val="1"/>
        <c:lblAlgn val="ctr"/>
        <c:lblOffset val="100"/>
        <c:noMultiLvlLbl val="0"/>
      </c:catAx>
      <c:valAx>
        <c:axId val="87417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6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F24-E52E-4708-B691-4194D17E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5AD-A680-4E3A-A1C8-0B7AAD90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A75-F5A6-4A07-99BD-DAC3FEFB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348-3D57-468E-83B1-F0ADBDFD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A85-61E6-45C6-9F1C-925850B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D5D-15B6-40EA-B8BC-F5F344C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2A7-8A5A-42BC-983D-7F526B7D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355-E5EE-4B92-B5CB-AF9886CE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8AD-D3EF-49E8-B1D3-F021E48D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482-F76E-4BD9-9FDB-EC9860B4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826-D6DE-4603-B1B3-4B01EB0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B56-3784-4F6C-8313-C2FBCC88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9B92-D34B-4E5F-92DD-3B8F32ECE6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